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17.jpeg" ContentType="image/jpeg"/>
  <Override PartName="/ppt/media/image13.wmf" ContentType="image/x-wmf"/>
  <Override PartName="/ppt/media/image9.png" ContentType="image/png"/>
  <Override PartName="/ppt/media/image16.jpeg" ContentType="image/jpeg"/>
  <Override PartName="/ppt/media/image15.wmf" ContentType="image/x-wmf"/>
  <Override PartName="/ppt/media/image1.jpeg" ContentType="image/jpeg"/>
  <Override PartName="/ppt/media/image2.wmf" ContentType="image/x-wmf"/>
  <Override PartName="/ppt/media/image3.wmf" ContentType="image/x-wmf"/>
  <Override PartName="/ppt/media/image5.jpeg" ContentType="image/jpeg"/>
  <Override PartName="/ppt/media/image14.wmf" ContentType="image/x-wmf"/>
  <Override PartName="/ppt/media/image6.png" ContentType="image/png"/>
  <Override PartName="/ppt/media/image7.jpeg" ContentType="image/jpeg"/>
  <Override PartName="/ppt/media/image10.wmf" ContentType="image/x-wmf"/>
  <Override PartName="/ppt/media/image4.jpeg" ContentType="image/jpeg"/>
  <Override PartName="/ppt/media/image8.png" ContentType="image/png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F6BA5-3A0B-4DF1-A4DD-1165B95706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166680" indent="-166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sosomes create a space where cell can digest macromolecules saf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7800" indent="-1839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pturing a few lysosomes has little impact on a cell (pH of cytosol affects functionality of the lysosomal enzymes), but massive leakage from lysosomes can destroy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evolve digestive enzymes which function at pH so different from cytoso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7800" indent="-1839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ve enzymes won’t function well if leak into cytosol = most times don’t want to digest yourself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7800" indent="-1839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pH = acid environment cause oxidation (removing electrons) &amp; promotes hydro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dback mechanis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sensors in the cell that monitor growth. They trigger self-destruct when they sense proces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wn spots on leaves to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 infected plant cell auto-destructs and even cells around it to wall off vir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dback mechanis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sensors in the cell that monitor growth. They trigger self-destruct when they sense processes gone aw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wn spots on leaves to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 infected plant cell auto-destructs and even kills cells around it to wall off vir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07661-D5C3-43F0-8943-E59752506E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EEB98-2933-4A74-8E15-6603D1B29D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F4D9A-F3A6-4BBF-A447-9406708C0C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EA8B1-8035-42A6-8AEC-BDFF2A923A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AEF64-F0D8-4D29-AB7D-330044FF67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18822-183F-4D44-9DEB-B4FAE293AF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E2C25-F190-47E0-95C7-FA80B12B93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77AF2-9D47-44C1-B2AE-5446F1CCD1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B1BCE-2743-462D-A8A3-94876B0D2F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13155-DB16-4036-BCAA-613DEC7786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DB12B-6D0A-4D16-95FA-D6029B8CAB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50A55-6873-440F-B4C9-53FE795A08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629A6-DEE7-4BA0-9F75-CBFB917685FD}" type="slidenum">
              <a:rPr b="1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7-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380880" y="1523880"/>
            <a:ext cx="6324840" cy="2590920"/>
            <a:chOff x="380880" y="1523880"/>
            <a:chExt cx="6324840" cy="2590920"/>
          </a:xfrm>
        </p:grpSpPr>
        <p:sp>
          <p:nvSpPr>
            <p:cNvPr id="50" name=""/>
            <p:cNvSpPr/>
            <p:nvPr/>
          </p:nvSpPr>
          <p:spPr>
            <a:xfrm>
              <a:off x="380880" y="1828800"/>
              <a:ext cx="632484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480" y="1523880"/>
              <a:ext cx="0" cy="259092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520" y="1752480"/>
              <a:ext cx="152280" cy="15264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2286000" y="2819520"/>
            <a:ext cx="6324480" cy="2590560"/>
            <a:chOff x="2286000" y="2819520"/>
            <a:chExt cx="6324480" cy="2590560"/>
          </a:xfrm>
        </p:grpSpPr>
        <p:sp>
          <p:nvSpPr>
            <p:cNvPr id="54" name=""/>
            <p:cNvSpPr/>
            <p:nvPr/>
          </p:nvSpPr>
          <p:spPr>
            <a:xfrm flipH="1">
              <a:off x="2286000" y="5105520"/>
              <a:ext cx="632448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8382240" y="2819520"/>
              <a:ext cx="0" cy="259056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0800000">
              <a:off x="8306280" y="5029560"/>
              <a:ext cx="151920" cy="15228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Lysosome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56491" t="10405" r="2599" b="6661"/>
          <a:stretch/>
        </p:blipFill>
        <p:spPr>
          <a:xfrm>
            <a:off x="4746600" y="3208320"/>
            <a:ext cx="4321080" cy="36496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648320" y="3505320"/>
            <a:ext cx="114300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unction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little “stomach” of the cel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4320" indent="-22716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digests macromolecule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“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clean up crew” of the cel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4320" indent="-22716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cleans up broken down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organelle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tructur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vesicles of digestive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enzyme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605040" y="5891760"/>
            <a:ext cx="1765800" cy="764280"/>
          </a:xfrm>
          <a:prstGeom prst="rect">
            <a:avLst/>
          </a:prstGeom>
          <a:solidFill>
            <a:srgbClr val="ffcc1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only in 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animal cells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0440" y="5891760"/>
            <a:ext cx="2954520" cy="764280"/>
          </a:xfrm>
          <a:prstGeom prst="rect">
            <a:avLst/>
          </a:prstGeom>
          <a:solidFill>
            <a:srgbClr val="b7c1eb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synthesized by rER, transferred to Golgi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7672320" y="185256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229440" y="358920"/>
            <a:ext cx="1766880" cy="1457280"/>
          </a:xfrm>
          <a:prstGeom prst="wedgeEllipseCallout">
            <a:avLst>
              <a:gd name="adj1" fmla="val 44787"/>
              <a:gd name="adj2" fmla="val 65467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Where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old organelles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go to die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!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rcRect l="0" t="0" r="3176" b="11140"/>
          <a:stretch/>
        </p:blipFill>
        <p:spPr>
          <a:xfrm>
            <a:off x="5791320" y="4067280"/>
            <a:ext cx="3276360" cy="27144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eroxisome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Other digestive enzyme sac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in both animals &amp; plant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roduce peroxide (H</a:t>
            </a:r>
            <a:r>
              <a:rPr b="1" lang="en-US" sz="28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must breakdown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O</a:t>
            </a:r>
            <a:r>
              <a:rPr b="1" lang="en-US" sz="24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O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Lysosomes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2599" t="6865" r="35786" b="6456"/>
          <a:stretch/>
        </p:blipFill>
        <p:spPr>
          <a:xfrm>
            <a:off x="744480" y="1289160"/>
            <a:ext cx="7856640" cy="46004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82480" y="4425120"/>
            <a:ext cx="4222800" cy="1677960"/>
          </a:xfrm>
          <a:prstGeom prst="rect">
            <a:avLst/>
          </a:prstGeom>
          <a:solidFill>
            <a:srgbClr val="ffcc1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white blood cells attack &amp; destroy invaders = digest them in lysosomes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12080" y="6053760"/>
            <a:ext cx="4509000" cy="767160"/>
          </a:xfrm>
          <a:prstGeom prst="rect">
            <a:avLst/>
          </a:prstGeom>
          <a:solidFill>
            <a:srgbClr val="b7c1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1974 Nobel prize: Christian de Duv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Lysosomes discovery in 1960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7086600" y="4191120"/>
            <a:ext cx="1778040" cy="25146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11" name=""/>
          <p:cNvSpPr/>
          <p:nvPr/>
        </p:nvSpPr>
        <p:spPr>
          <a:xfrm>
            <a:off x="6679800" y="291240"/>
            <a:ext cx="2456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f116a"/>
                </a:solidFill>
                <a:latin typeface="Arial"/>
              </a:rPr>
              <a:t>1960 </a:t>
            </a:r>
            <a:r>
              <a:rPr b="1" lang="en-US" sz="3400" spc="-1" strike="noStrike">
                <a:solidFill>
                  <a:srgbClr val="000005"/>
                </a:solidFill>
                <a:latin typeface="Arial"/>
              </a:rPr>
              <a:t>| </a:t>
            </a:r>
            <a:r>
              <a:rPr b="1" lang="en-US" sz="3400" spc="-1" strike="noStrike">
                <a:solidFill>
                  <a:srgbClr val="cc0000"/>
                </a:solidFill>
                <a:latin typeface="Arial"/>
              </a:rPr>
              <a:t>1974</a:t>
            </a:r>
            <a:endParaRPr b="0" lang="en-US" sz="3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ellular diges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2137" b="3113"/>
          <a:stretch/>
        </p:blipFill>
        <p:spPr>
          <a:xfrm>
            <a:off x="3568680" y="1897200"/>
            <a:ext cx="5531040" cy="48830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9250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116a"/>
                </a:solidFill>
                <a:latin typeface="Arial"/>
              </a:rPr>
              <a:t>Lysosomes fuse with food vacuoles</a:t>
            </a:r>
            <a:endParaRPr b="1" lang="en-US" sz="32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olymers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digested into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monomers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pass to cytosol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o become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nutrients of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cell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90000" y="456444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cuol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" y="5959440"/>
            <a:ext cx="4804200" cy="90180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25360" indent="-225360">
              <a:lnSpc>
                <a:spcPct val="10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lyso– 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=  breaking things apar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–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some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 =  body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Lysosomal enzymes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80773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Lysosomal enzymes work best at pH 5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organelle creates custom pH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how? 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proteins in lysosomal membrane pump H</a:t>
            </a:r>
            <a:r>
              <a:rPr b="1" lang="en-US" sz="2000" spc="-1" strike="noStrike" baseline="30000">
                <a:solidFill>
                  <a:srgbClr val="0f116a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ions from the cytosol into lysosome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why?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enzymes are very sensitive to pH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why?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enzymes are proteins — pH affects structure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why evolve digestive enzymes which function at pH different from cytosol?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digestive enzymes won’t function well if some leak into cytosol = don’t want to digest yourself!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203880" y="4129200"/>
            <a:ext cx="2851200" cy="2627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When things go bad… 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2819520"/>
            <a:ext cx="762120" cy="20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85360" y="1371600"/>
            <a:ext cx="8364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f116a"/>
                </a:solidFill>
                <a:latin typeface="Arial"/>
              </a:rPr>
              <a:t>Diseases of lysosomes are often fatal</a:t>
            </a:r>
            <a:endParaRPr b="1" lang="en-US" sz="3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digestive enzyme not working in lysosom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icks up biomolecules, but can’t digest on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lysosomes fill up with </a:t>
            </a:r>
            <a:r>
              <a:rPr b="1" lang="en-US" sz="2400" spc="-1" strike="noStrike" u="sng">
                <a:solidFill>
                  <a:srgbClr val="0f116a"/>
                </a:solidFill>
                <a:uFillTx/>
                <a:latin typeface="Arial"/>
              </a:rPr>
              <a:t>undigested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material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grow larger &amp; larger until disrupts cell &amp; organ function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lysosomal storage disease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more than 40 known diseases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example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:</a:t>
            </a:r>
            <a:br>
              <a:rPr sz="2400"/>
            </a:br>
            <a:r>
              <a:rPr b="1" lang="en-US" sz="2400" spc="-1" strike="noStrike" u="sng">
                <a:solidFill>
                  <a:srgbClr val="0f116a"/>
                </a:solidFill>
                <a:uFillTx/>
                <a:latin typeface="Arial"/>
              </a:rPr>
              <a:t>Tay-Sachs disease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build up undigested fat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in brain cell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rcRect l="0" t="0" r="3600" b="12962"/>
          <a:stretch/>
        </p:blipFill>
        <p:spPr>
          <a:xfrm>
            <a:off x="4557600" y="2163600"/>
            <a:ext cx="4586400" cy="20145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But sometimes cells need to die…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2840" y="1359000"/>
            <a:ext cx="830556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Lysosomes can be used to kill cells when they are supposed to be destroyed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ome cells have to die for proper development in an organism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apoptosis</a:t>
            </a:r>
            <a:r>
              <a:rPr b="1" lang="en-US" sz="2400" spc="-1" strike="noStrike" u="sng">
                <a:solidFill>
                  <a:srgbClr val="ff0322"/>
                </a:solidFill>
                <a:uFillTx/>
                <a:latin typeface="Arial"/>
              </a:rPr>
              <a:t> 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3" marL="1428840" indent="-228600"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auto-destruct” process 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3" marL="1428840" indent="-228600"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lysosomes break open &amp; kill cell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ex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: tadpole tail gets re-absorbed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when it turns into a frog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ex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: loss of webbing between your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fingers during fetal development 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rcRect l="67507" t="30000" r="13500" b="42000"/>
          <a:stretch/>
        </p:blipFill>
        <p:spPr>
          <a:xfrm>
            <a:off x="6950160" y="4456080"/>
            <a:ext cx="2019240" cy="2232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Fetal developmen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52280" y="1295280"/>
            <a:ext cx="4191120" cy="40435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356000" y="3205080"/>
            <a:ext cx="4724640" cy="35798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7644600" y="3222720"/>
            <a:ext cx="1456200" cy="39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15 weeks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77560" y="1407600"/>
            <a:ext cx="145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6 weeks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413240" y="366120"/>
            <a:ext cx="4730760" cy="2632680"/>
            <a:chOff x="4413240" y="366120"/>
            <a:chExt cx="4730760" cy="2632680"/>
          </a:xfrm>
        </p:grpSpPr>
        <p:pic>
          <p:nvPicPr>
            <p:cNvPr id="133" name="" descr=""/>
            <p:cNvPicPr/>
            <p:nvPr/>
          </p:nvPicPr>
          <p:blipFill>
            <a:blip r:embed="rId3"/>
            <a:srcRect l="0" t="0" r="0" b="6751"/>
            <a:stretch/>
          </p:blipFill>
          <p:spPr>
            <a:xfrm>
              <a:off x="6096240" y="682560"/>
              <a:ext cx="3047760" cy="22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" descr=""/>
            <p:cNvPicPr/>
            <p:nvPr/>
          </p:nvPicPr>
          <p:blipFill>
            <a:blip r:embed="rId4"/>
            <a:srcRect l="9601" t="0" r="0" b="0"/>
            <a:stretch/>
          </p:blipFill>
          <p:spPr>
            <a:xfrm>
              <a:off x="4413240" y="1569960"/>
              <a:ext cx="1727280" cy="14288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</p:pic>
        <p:sp>
          <p:nvSpPr>
            <p:cNvPr id="135" name=""/>
            <p:cNvSpPr/>
            <p:nvPr/>
          </p:nvSpPr>
          <p:spPr>
            <a:xfrm>
              <a:off x="6204960" y="366120"/>
              <a:ext cx="2020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f116a"/>
                  </a:solidFill>
                  <a:latin typeface="Arial"/>
                </a:rPr>
                <a:t>syndactyly</a:t>
              </a:r>
              <a:endParaRPr b="0" lang="en-US" sz="2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63360" y="4751280"/>
            <a:ext cx="4205160" cy="2043360"/>
            <a:chOff x="63360" y="4751280"/>
            <a:chExt cx="4205160" cy="2043360"/>
          </a:xfrm>
        </p:grpSpPr>
        <p:pic>
          <p:nvPicPr>
            <p:cNvPr id="137" name="" descr=""/>
            <p:cNvPicPr/>
            <p:nvPr/>
          </p:nvPicPr>
          <p:blipFill>
            <a:blip r:embed="rId5"/>
            <a:stretch/>
          </p:blipFill>
          <p:spPr>
            <a:xfrm rot="5400000">
              <a:off x="2567880" y="5094000"/>
              <a:ext cx="2043360" cy="135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6"/>
            <a:srcRect l="0" t="0" r="0" b="26146"/>
            <a:stretch/>
          </p:blipFill>
          <p:spPr>
            <a:xfrm>
              <a:off x="63360" y="5253120"/>
              <a:ext cx="2773440" cy="15285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poptosi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148572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rogrammed destruction of cells in multi-cellular organism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rogrammed development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ontrol of cell growth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66"/>
                </a:solidFill>
                <a:uFillTx/>
                <a:latin typeface="Arial"/>
              </a:rPr>
              <a:t>example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: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if cell grows uncontrollably this </a:t>
            </a:r>
            <a:r>
              <a:rPr b="1" lang="en-US" sz="2400" spc="-1" strike="noStrike" u="sng">
                <a:solidFill>
                  <a:srgbClr val="0f116a"/>
                </a:solidFill>
                <a:uFillTx/>
                <a:latin typeface="Arial"/>
              </a:rPr>
              <a:t>self-destruct mechanism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is triggered to remove damaged cell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cancer must over-ride this to enable tumor growth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103800" y="4140360"/>
            <a:ext cx="3040200" cy="271764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Vacuoles &amp; vesicle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unction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little “transfer ships”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Food vacuole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fuse with lysosomes</a:t>
            </a:r>
            <a:endParaRPr b="1" lang="en-US" sz="22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Contractile vacuole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in freshwater protists, pump excess H</a:t>
            </a:r>
            <a:r>
              <a:rPr b="1" lang="en-US" sz="22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O </a:t>
            </a:r>
            <a:br>
              <a:rPr sz="2200"/>
            </a:b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out of cell</a:t>
            </a:r>
            <a:endParaRPr b="1" lang="en-US" sz="22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Central vacuoles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in many mature plant cells</a:t>
            </a:r>
            <a:endParaRPr b="1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rcRect l="0" t="57031" r="49500" b="0"/>
          <a:stretch/>
        </p:blipFill>
        <p:spPr>
          <a:xfrm>
            <a:off x="5859360" y="1219320"/>
            <a:ext cx="3284640" cy="17650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rcRect l="0" t="0" r="0" b="49415"/>
          <a:stretch/>
        </p:blipFill>
        <p:spPr>
          <a:xfrm>
            <a:off x="76320" y="5318280"/>
            <a:ext cx="3582720" cy="15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rian</cp:lastModifiedBy>
  <cp:lastPrinted>2008-11-25T21:18:19Z</cp:lastPrinted>
  <dcterms:modified xsi:type="dcterms:W3CDTF">2009-11-17T00:25:00Z</dcterms:modified>
  <cp:revision>93</cp:revision>
  <dc:subject/>
  <dc:title>Cells functions </dc:title>
</cp:coreProperties>
</file>